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B83-F0F8-4F31-BDC3-0F857E23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2A50-EA2F-4B4C-BAEA-EF998F97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23A16B-F7B4-4ED3-9398-958AD404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ED41D-E167-4393-962A-D3209F65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388D7-DBF4-4B72-A5D7-B820E9C0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8EA94-D5FB-4437-A4DC-D026D66F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6C69F-F608-4F1D-910B-1E873A3F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3A5AF-806A-4501-927B-748C99E6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A395D-6A7C-4A34-8048-9454ED10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336A1-55EE-4E43-8536-2251DE39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4D594-3217-4915-BC4B-BACBC7B8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6DB1D-D134-40AF-B498-C8D543C7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40FA-40EB-4D96-890A-0FA7CAAD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77086-67A5-4220-8DB3-4F766ABC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9F388-B04F-4DA3-A73D-B6AA3A74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65F3B-7FF9-43F0-BBC3-D92B6AD8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F655C-D45B-4C54-80FA-19D7CE53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D2B0E7-B295-48AA-A057-070E850F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55BCB-01AC-4761-9700-335736AC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3C183-4EA3-4F8F-80BB-A60A17D4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8863D-69AD-438F-AD26-D00AF8BD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DCF74-4EA2-4CB1-B00A-C529CB95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61BCF-BCEF-4DF9-9AC4-9BDDCF27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A5E-4EE3-4369-B3C2-9A949B8C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170A5-B071-420C-ACF8-2E85C3EA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F5AC9-75FF-4F36-8E38-11D48359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16EC2-FFC9-4BEB-912F-CE2E7A9A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28CCD-D131-4C89-B6A2-027B0FF5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F102B-5C43-44EE-9441-5CB0C69B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943EF-1467-4440-B1DB-C441F75D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92C51-03D8-4AB6-AA49-1093D819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48748C-4F64-4FD1-87F0-A67FE663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2B272-95A3-457C-8B2B-2D00CCA0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421A3-BFF2-49C8-B82E-F38A4BBB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2202-80E7-4421-B2B7-A14F3067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C6A4A-0C6B-4D6A-9464-6F8439B3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6E5E1-7F07-4A6A-A46F-ABD51744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14372-2409-4E50-BDE9-08E92839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28BE1-6A45-4566-8325-6362E8E1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5A9EC-8A7B-432F-99AF-55DCEDAC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0BA58-2A66-4A1A-B11D-25821624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BFA7D-DACF-45A2-8B4C-6D240872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054DD-F593-4254-BF63-82FD6B7D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8F608-9FDE-48A3-94D9-B0984CDD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8B948-CD6C-4F5D-85D7-D260E40C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873C-CB44-4DB3-B0C7-7622686D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568D5E-FA65-4EA8-A67F-7BF159E1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F8C20-B505-470E-9957-04ED8D69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1AA59-F000-4EA4-AC7F-11BF7864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65433-7027-4D12-835D-B5B2CC8D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7B001-3D31-4A59-8B3D-751CDF8B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DC9F-0CDF-457F-90F4-2F4EAED7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9A189-1E31-4894-9743-5EB49728E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1401-9373-45A8-B208-811ABC93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4287-2F03-47B7-90B4-8A978CDA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182D-8E1D-46EC-B8A0-5B4BB89F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4B5B-417A-4A05-BD5A-6443D7FA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177B-4BFD-49D4-9A1E-D0026F5C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D6BF-A996-4642-B9EB-3D2DD122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9211-DAF4-40FA-B891-195E8E63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52D1-FEDC-4A43-8E6D-D3913D8B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BBA9-3368-459C-93D2-E7C7638E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7231E-76A4-43E7-986E-6FFC3820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32185-ECCD-4971-8CB8-1E254D66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C7348-73D8-4930-9147-67F4A5F3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F40C0-8359-4B5F-859A-4D46513B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78E18-5D3F-4CCC-97CA-BCB36D68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577D-8A17-4C75-83E1-3FB4E04F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BA6B3-0095-4B1B-81AF-242CBA04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B5DD4-3354-4023-8698-F2739A87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C20A6-5EC3-432A-865B-257CABC6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4A72C-3263-4090-B9B3-87D68128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C1A4B-E3A4-45CA-B120-4C8ED91F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067A1-1968-4B84-92AA-CA86DDD4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2AD05-D888-4858-8D3F-5C23ADC0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8149F-C973-4139-A161-C3330662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4ABF7-D344-4FED-A514-0017B3AD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A8D3E-4C24-4936-B433-8B96777C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F9AD-60CC-4CFD-BC5C-E09EB46E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14DEF-979B-4B21-ADDF-31E0F3A9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0DCC0-5D44-4753-9C8A-161272BF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30270-83AB-4557-97FB-7594B6EF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5240F-D52B-449A-B661-B9140702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8A74C-DE38-40B6-A8F2-0DACFBCB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4BC8D-3D05-4336-A1FC-84D58E85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C7E85-2DE0-4279-BF64-CDF4EE6D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727B6-98A9-4BBD-BA9E-0146CD1E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073BD-D177-4F84-8E12-7BF8927C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9C572-D95C-40ED-A1FA-B4DC03D7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8F9-71F6-4675-AF0C-CC69563C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BDD9D-6F3E-4969-80D0-FD993041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0BE24-221A-431C-8DDE-A0C6A1A9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2353B-D6EE-4904-84A3-D8048E8E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406A8-965A-4B53-8523-D92E61F8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6A005-444A-4061-955E-6246A86C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AA538-CB65-4FE6-9F65-BFB1CFCC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4763D-A6D7-4989-BE00-090E04D4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0DB11-1D20-4F57-A161-A3F0F835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7C708-02FE-4585-8655-5C4EC7D1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80BB2-23FE-4E24-BE7D-EBE7902B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02B2-2D95-4B50-A207-BA374BA7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3E44A-3A9F-4D87-877B-64303A82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666FD-B73F-4D50-94C5-C7CBF237B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E6B31-F86C-4425-9B51-B33A180E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C1B35-EB74-4200-833D-C01C38A9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47B43-23C4-4C1E-B20D-71559877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2270C-5D96-4E5E-AA46-D4CAC784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7CFCA-39AC-433C-B37B-11BF46F7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7EFB2-2D57-4390-BE85-8E7CA20E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9E59C-5ECF-4074-9CC0-38C05DC3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B6AC4-A426-4377-BD25-8E993C0B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8F5A-3A29-4CD1-A94A-644ED5D7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5E805-EEE7-4A3C-B06F-A64D1109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2387E-850B-4D58-AE3D-7700299C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6DF20-AFB6-40E6-B062-0C2AC6A7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DC17B-8E06-4EF5-8104-EFC68F2B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FE080-D0CC-45CC-AECA-C54027EC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48E23A-18D9-4B85-8269-93ECCF47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67B7B-AD44-41A0-A6D6-8B27E470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01060-4E2E-44CB-8D1B-A2D524A2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2D81C-B094-4AE2-BDAF-3FF927EF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C18A3-EEF5-4B77-A01A-3DD436BC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0D94-540A-4DA5-B2EF-DFFBDCFE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72BB3-B767-4D3D-9E43-48A61BDB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5FF72-A765-4BC3-AB33-FCA106B0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084A5-43F0-46C1-806C-2E61B1A1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BA257-154F-47AA-AD1B-29B6250D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6C781-8528-4112-8ACB-1765F172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D4189-47A0-4328-A471-6B60AE77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D57F6-1EBA-403D-B6FD-99612B25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F06EB-7727-4A4F-945A-5B9DFCF8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0D975-6240-45F5-9C41-AA5B5FE3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4A7B1-95FA-4B86-B0D1-042CBB58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81F-B8AE-4452-A86A-38800BF4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B01DF-F638-4CFC-84DA-2238AFFC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263F1-AAA4-4479-8733-E9482D4C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DF049-634A-4C25-8231-0EA80313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141C7-E64B-46F9-A044-A98C0E8E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C520F-FD4D-45E1-B51E-C636BEAB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43F97-8A79-4B11-83DC-99D92363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A379A-B5C3-46CD-8F84-C910BA94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1B10E-3E91-4D66-BEC8-C8AAC2B3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7B750-5D22-4567-A4A1-7B2FE5F9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456FA-54CE-4EAE-AAE6-FCB04257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D6F8-7A08-47CD-8F8B-02C2D6A180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6653-5ACB-4E6E-B6DF-45C1751D0A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7750-16E6-4339-AB0C-D1E07D5F99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9FC9-D227-4427-B9B1-8A2EC32579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829BE-29AB-4782-999A-3BBF0DB56B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7CDD-FD80-40B7-8703-C4BBE9543E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EB62-4176-4A5F-9B22-C56B2F6FB2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9C65-7C00-4DFE-9CEE-2F3BDA2129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C665-AAE2-4699-A6B9-E12DA9357B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4316-2DB0-4CA0-81A1-DA4FE798D6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DE67-DBC1-4487-8B34-9A9845EFEE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014A-BF12-4AD8-BDEA-51AB360373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2514600" y="3504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look at the world to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timah .R.,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thuja .J. &amp;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wshia .V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1143000" y="2514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Genetic Engineerin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Branches of sciences needed to study the technolog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447920" y="205704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Gene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edic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iology/Chem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iochemis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icrobi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Chemical Engine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What professions use this technology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523520" y="182844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crobiolog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Laboratory technic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Research assist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Lecturer or profess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Chief Executive Officer of a biotech comp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Postdoctoral research associ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Genetic Engineer Researc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Tahoma"/>
              </a:rPr>
              <a:t>Biotechnolog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0" name="Picture 5" descr="69340-microbiologist"/>
          <p:cNvPicPr/>
          <p:nvPr/>
        </p:nvPicPr>
        <p:blipFill>
          <a:blip r:embed="rId1"/>
          <a:stretch/>
        </p:blipFill>
        <p:spPr>
          <a:xfrm>
            <a:off x="6553080" y="1905120"/>
            <a:ext cx="167652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Courses offered at Universi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523520" y="175212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ffff"/>
                </a:solidFill>
                <a:uFillTx/>
                <a:latin typeface="Tahoma"/>
              </a:rPr>
              <a:t>University of Toronto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Human Biology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Genes, genetic and biotechnology specialities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CA" sz="2400" spc="-1" strike="noStrike" u="sng">
                <a:solidFill>
                  <a:srgbClr val="ffffff"/>
                </a:solidFill>
                <a:uFillTx/>
                <a:latin typeface="Tahoma"/>
              </a:rPr>
              <a:t>York Univers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Biotechnology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Requirements</a:t>
            </a:r>
            <a:r>
              <a:rPr b="0" lang="en-CA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 Grade 12 Chemistry, Calculus and Advanced Fun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Grade 12 Physics is highly recommend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Other Requirements</a:t>
            </a:r>
            <a:r>
              <a:rPr b="0" lang="en-CA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 team worker, honest, creative, has problem solving ski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3" name="Picture 5" descr="utoronto-logo"/>
          <p:cNvPicPr/>
          <p:nvPr/>
        </p:nvPicPr>
        <p:blipFill>
          <a:blip r:embed="rId1"/>
          <a:stretch/>
        </p:blipFill>
        <p:spPr>
          <a:xfrm>
            <a:off x="7315200" y="1523880"/>
            <a:ext cx="1123920" cy="1109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york-logo"/>
          <p:cNvPicPr/>
          <p:nvPr/>
        </p:nvPicPr>
        <p:blipFill>
          <a:blip r:embed="rId2"/>
          <a:stretch/>
        </p:blipFill>
        <p:spPr>
          <a:xfrm>
            <a:off x="6629400" y="5715000"/>
            <a:ext cx="236232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599840" y="1066320"/>
            <a:ext cx="7162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Genetic engineering is direct manipulation of an organism’s ge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ost common uses of genetic engineering are in medici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 very controversial topic considering the ethical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Variety of sciences are incorporated into this engineer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Many professions use this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2388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Reference Li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600200" y="129492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Career Details for Biotechnologist. (n.d.). December 14, 2008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&lt;http://careercruising.com/Careers/JobDetails.aspx?LoginID=53770d7f-cddd-449d-970d-8cb29415fa18-&amp;OccNumber=603&amp;Language=English&gt;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Engdahl, Sylvia, ed. </a:t>
            </a:r>
            <a:r>
              <a:rPr b="0" lang="en-CA" sz="1200" spc="-1" strike="noStrike" u="sng">
                <a:solidFill>
                  <a:srgbClr val="ffffff"/>
                </a:solidFill>
                <a:uFillTx/>
                <a:latin typeface="Tahoma"/>
              </a:rPr>
              <a:t>Genetic Engineering</a:t>
            </a: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. Bonnie Szumski, 2006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"Genetic Engineering" </a:t>
            </a:r>
            <a:r>
              <a:rPr b="0" lang="en-CA" sz="1200" spc="-1" strike="noStrike" u="sng">
                <a:solidFill>
                  <a:srgbClr val="ffffff"/>
                </a:solidFill>
                <a:uFillTx/>
                <a:latin typeface="Tahoma"/>
              </a:rPr>
              <a:t>Encyclopedia Britannica</a:t>
            </a: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. 2008. Encyclopedia Britannica Online Library Edition. 13 Dec. 2008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Genetic Engineering." Wikipedia, The Free Encyclopedia. 12 Dec. 2008, &lt;http://en.wikipedia.org/wiki/genetic_engineering#genetic_engineering&gt;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Genetic Engineering Research Scientist Job Description, Career as a Genetic Engineering Research Scientist, Salary, Employment - Definition and Nature of the Work, Education and Training Requirements, Getting the Job. December 14, 2008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&lt;http://careers.stateuniversity.com/pages/402/Genetic-Engineering-Research-Scientist.html&gt;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Heaf, D. (2004, January 25). Becoming a Genetic Engineer. December 14, 2008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&lt;http://www.ifgene.org/gecareer.htm.&gt;"Human's Playground: Genetic Engineering." Think quest. 11 Dec. 2008 &lt;http://library.thinkquest.org/04apr/00774/en/txt/uses_medicine.html&gt;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MacDonald Glenn, Linda. "Bio Med Law." 13 Dec. 2008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&lt;http://www.biomedlaw.com./bioethics.php&gt;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cDonald Glenn, Linda. "Ethical Issues in Genetic Engineering and Transgenic."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Tahoma"/>
              </a:rPr>
              <a:t>Actionbioscience.org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. American Institute of Biological Sciences. 13 Dec. 2008 &lt;http://www.actionbioscience.org/biotech/glenn.html&gt;.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McLeish, Ewan. </a:t>
            </a:r>
            <a:r>
              <a:rPr b="0" lang="en-CA" sz="1200" spc="-1" strike="noStrike" u="sng">
                <a:solidFill>
                  <a:srgbClr val="ffffff"/>
                </a:solidFill>
                <a:uFillTx/>
                <a:latin typeface="Tahoma"/>
              </a:rPr>
              <a:t>Genetic Revolution</a:t>
            </a: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. New York: Stargazer Books, 2006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Wilson, R. (2006, July 19). Human Biology at the University of Toronto. December 14, 2008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&lt;http://www.hmb.utoronto.ca/ggb.asp&gt;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York University - Biology Undergraduate - Biotechnology. (n.d.). Retrieved December 14, 2008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1200" spc="-1" strike="noStrike">
                <a:solidFill>
                  <a:srgbClr val="ffffff"/>
                </a:solidFill>
                <a:latin typeface="Tahoma"/>
              </a:rPr>
              <a:t>&lt;http://www.yorku.ca/ugbio/Programs&gt;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Your Thoughts on..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30" name="Picture 5" descr="C:\Users\Owner\AppData\Local\Microsoft\Windows\Temporary Internet Files\Content.IE5\2SUOHE4G\MCj04244740000[1].wmf"/>
          <p:cNvPicPr/>
          <p:nvPr/>
        </p:nvPicPr>
        <p:blipFill>
          <a:blip r:embed="rId1"/>
          <a:stretch/>
        </p:blipFill>
        <p:spPr>
          <a:xfrm>
            <a:off x="2286000" y="3886200"/>
            <a:ext cx="2438280" cy="257508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7"/>
          <p:cNvGrpSpPr/>
          <p:nvPr/>
        </p:nvGrpSpPr>
        <p:grpSpPr>
          <a:xfrm>
            <a:off x="3429000" y="1219320"/>
            <a:ext cx="4952880" cy="2590560"/>
            <a:chOff x="3429000" y="1219320"/>
            <a:chExt cx="4952880" cy="2590560"/>
          </a:xfrm>
        </p:grpSpPr>
        <p:sp>
          <p:nvSpPr>
            <p:cNvPr id="532" name="Cloud Callout 5"/>
            <p:cNvSpPr/>
            <p:nvPr/>
          </p:nvSpPr>
          <p:spPr>
            <a:xfrm>
              <a:off x="3429000" y="1219320"/>
              <a:ext cx="4952880" cy="2590560"/>
            </a:xfrm>
            <a:prstGeom prst="cloudCallout">
              <a:avLst>
                <a:gd name="adj1" fmla="val -26620"/>
                <a:gd name="adj2" fmla="val 71453"/>
              </a:avLst>
            </a:prstGeom>
            <a:solidFill>
              <a:srgbClr val="ffffff"/>
            </a:solidFill>
            <a:ln w="9360">
              <a:solidFill>
                <a:srgbClr val="3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3" name="TextBox 3"/>
            <p:cNvSpPr/>
            <p:nvPr/>
          </p:nvSpPr>
          <p:spPr>
            <a:xfrm>
              <a:off x="4114800" y="1828800"/>
              <a:ext cx="3733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ff0000"/>
                  </a:solidFill>
                  <a:latin typeface="Tahoma"/>
                </a:rPr>
                <a:t>GENETIC ENGINEERING and its uses in our everyday lives considering everything that was discussed in the presentation!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52352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ntroduction to Genetic Enginee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pplica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Safety and Ethical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Branches of Scie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ses of this technology by profes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Universities/ Courses/ Requir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is Genetic Engineering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676160" y="1600200"/>
            <a:ext cx="701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irect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anipulating/altering the structure and characteristics of genes using molecular cloning &amp; trans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 from “normal” breeding – genes manipulat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direc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gricultural Applica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599840" y="152352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es back 100 yea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day, scientist u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combinant DNA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food made by recombinant DNA technology – Flavr Savr Tomatoes (199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0% of foods are genetically modifi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ution to world hu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uman &amp; Medical Applica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523520" y="1904760"/>
            <a:ext cx="7162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tion of Insul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tic Screening/Te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 Thera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duction of experimental mice, oncomouse (cancer mous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cc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5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09" name="Content Placeholder 3" descr="untitled.bmp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7920" y="2743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oning and Stem Cel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447920" y="160020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ne created from one cell – not sex cel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ning – process of creating an identical copy of an original (Example: Identical Twi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m cells (master cells) can develop into any tissu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e their own disease or build new organs – NO REJ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47920" y="274680"/>
            <a:ext cx="7238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Ethics Involving Genetic Engineer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hical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issues concerning human beings and animal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- Are we playing God?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- Religions beliefs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- Creates new virus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- Designer Bab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1523520" y="19807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tic 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Engineering and Pla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- Effects on our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- Long run effects on environ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1447920" y="274680"/>
            <a:ext cx="723888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cc"/>
                </a:solidFill>
                <a:latin typeface="Tahoma"/>
              </a:rPr>
              <a:t>Ethics Involving Genetic Engineer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03:03:29Z</dcterms:created>
  <dc:creator>abc</dc:creator>
  <dc:description/>
  <dc:language>en-US</dc:language>
  <cp:lastModifiedBy>Owner</cp:lastModifiedBy>
  <dcterms:modified xsi:type="dcterms:W3CDTF">2008-12-20T01:51:34Z</dcterms:modified>
  <cp:revision>51</cp:revision>
  <dc:subject/>
  <dc:title>Genetic Engineering</dc:title>
</cp:coreProperties>
</file>